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CEBA-6CF0-459C-AB6F-AFE7E47D1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AAC9-5651-4EF2-9C56-B0A053A6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9243-2E69-4DF2-A568-F83C56F52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6ED9-6959-471C-B4F7-17C6ACF33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C2D0-BBA2-431D-8AA8-81F8E4DE0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39C2-AC0B-4B0F-84D0-36FD346E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91EA-8683-49C7-BA21-2A17DB6F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F3100-E26D-425E-A813-617E8218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93C0-3942-4E43-9EAC-8904A78A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71BA-8127-4704-B64E-A9AE0346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82A29-6812-46D6-8E46-2D9E3B9A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E291-F4B8-4021-8351-1069CE20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258A-A5B4-419E-B594-8DB56D77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6C095-6643-4A7B-B149-D0D9932F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5342-71B8-4436-8B13-C2C17008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5E599-7601-4EED-84F6-46B48BC43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7A69-F8A0-41FA-85A8-65EAC2F68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63C3-65CD-487C-9D42-BD041AC3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1DD4-91A3-44C3-8BBD-D436B420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BA34-516D-408E-8749-D580DDB0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B696-D003-492F-B55D-F8BA3D4C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EFDD-07F0-40C5-8103-2DEAFDDC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6A5D-BA03-457A-915E-E85E821B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2921-E3F2-44AB-B148-030A790D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e5a"/>
                  </a:gs>
                  <a:gs pos="100000">
                    <a:srgbClr val="ac835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9b7655"/>
                  </a:gs>
                  <a:gs pos="50000">
                    <a:srgbClr val="ac835e"/>
                  </a:gs>
                  <a:gs pos="100000">
                    <a:srgbClr val="9b7655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774F-5FA4-4490-BEE9-6132BC147C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ac835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ac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e5a"/>
                  </a:gs>
                  <a:gs pos="100000">
                    <a:srgbClr val="ac835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9b7655"/>
                  </a:gs>
                  <a:gs pos="50000">
                    <a:srgbClr val="ac835e"/>
                  </a:gs>
                  <a:gs pos="100000">
                    <a:srgbClr val="9b7655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BAC2-FE76-4907-B607-003F88A680C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99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hawamusic.com/1/music.html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iness-mezel.com/index2a.html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cc"/>
                </a:solidFill>
                <a:latin typeface="Papyrus"/>
              </a:rPr>
              <a:t>Le Maghreb</a:t>
            </a:r>
            <a:endParaRPr b="0" lang="en-US" sz="7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5791320" y="4952520"/>
            <a:ext cx="3200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Papyrus"/>
              </a:rPr>
              <a:t>Qu’est-ce que c’est?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rcRect l="0" t="7999" r="0" b="17334"/>
          <a:stretch/>
        </p:blipFill>
        <p:spPr>
          <a:xfrm>
            <a:off x="380880" y="3886200"/>
            <a:ext cx="381024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419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cc"/>
                </a:solidFill>
                <a:latin typeface="Papyrus"/>
              </a:rPr>
              <a:t>Algérie</a:t>
            </a:r>
            <a:endParaRPr b="0" lang="en-US" sz="75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4343400" y="228600"/>
            <a:ext cx="4241880" cy="294336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7391520" y="2666880"/>
            <a:ext cx="1066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Papyrus"/>
              </a:rPr>
              <a:t>Alger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152280" y="1447920"/>
            <a:ext cx="4100760" cy="41148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304920" y="4952880"/>
            <a:ext cx="1981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Papyrus"/>
              </a:rPr>
              <a:t>Constantin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3"/>
          <a:stretch/>
        </p:blipFill>
        <p:spPr>
          <a:xfrm>
            <a:off x="4495680" y="3581280"/>
            <a:ext cx="4496040" cy="287208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7848720" y="6019920"/>
            <a:ext cx="1066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Papyrus"/>
              </a:rPr>
              <a:t>Ora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123720" y="22824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cc"/>
                </a:solidFill>
                <a:latin typeface="Papyrus"/>
              </a:rPr>
              <a:t>Maroc</a:t>
            </a:r>
            <a:endParaRPr b="0" lang="en-US" sz="75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3333960" cy="232416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228600" y="220968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Papyrus"/>
              </a:rPr>
              <a:t>Casablanc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4648320" y="1219320"/>
            <a:ext cx="4267080" cy="28638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7772400" y="3657600"/>
            <a:ext cx="1143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Papyrus"/>
              </a:rPr>
              <a:t>Raba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3"/>
          <a:stretch/>
        </p:blipFill>
        <p:spPr>
          <a:xfrm>
            <a:off x="609480" y="2666880"/>
            <a:ext cx="3810240" cy="2524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609480" y="4724280"/>
            <a:ext cx="762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Papyrus"/>
              </a:rPr>
              <a:t>F</a:t>
            </a:r>
            <a:r>
              <a:rPr b="0" lang="en-US" sz="2500" spc="-1" strike="noStrike">
                <a:solidFill>
                  <a:srgbClr val="ffffff"/>
                </a:solidFill>
                <a:latin typeface="Papyrus"/>
                <a:ea typeface="Tahoma"/>
              </a:rPr>
              <a:t>è</a:t>
            </a:r>
            <a:r>
              <a:rPr b="0" lang="en-US" sz="2500" spc="-1" strike="noStrike">
                <a:solidFill>
                  <a:srgbClr val="ffffff"/>
                </a:solidFill>
                <a:latin typeface="Papyrus"/>
              </a:rPr>
              <a:t>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4648320" y="4191120"/>
            <a:ext cx="3886200" cy="24876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4648320" y="6172200"/>
            <a:ext cx="1752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Papyrus"/>
              </a:rPr>
              <a:t>Marrakech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029200" y="228240"/>
            <a:ext cx="381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cc"/>
                </a:solidFill>
                <a:latin typeface="Papyrus"/>
              </a:rPr>
              <a:t>Tunisie</a:t>
            </a:r>
            <a:endParaRPr b="0" lang="en-US" sz="75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5638680" cy="48355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5029200" y="5715000"/>
            <a:ext cx="1066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Papyrus"/>
              </a:rPr>
              <a:t>Tuni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cc"/>
                </a:solidFill>
                <a:latin typeface="Papyrus"/>
              </a:rPr>
              <a:t>Les Immeubles</a:t>
            </a:r>
            <a:endParaRPr b="0" lang="en-US" sz="75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6019920" y="1066680"/>
            <a:ext cx="2833560" cy="24274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3"/>
          <a:stretch/>
        </p:blipFill>
        <p:spPr>
          <a:xfrm>
            <a:off x="4495680" y="3733920"/>
            <a:ext cx="3429000" cy="29415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480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cc"/>
                </a:solidFill>
                <a:latin typeface="Papyrus"/>
              </a:rPr>
              <a:t>La Peuple</a:t>
            </a:r>
            <a:endParaRPr b="0" lang="en-US" sz="75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4457880" cy="500076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2"/>
          <a:srcRect l="0" t="4706" r="0" b="4313"/>
          <a:stretch/>
        </p:blipFill>
        <p:spPr>
          <a:xfrm>
            <a:off x="5715000" y="228600"/>
            <a:ext cx="3171960" cy="441972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3"/>
          <a:stretch/>
        </p:blipFill>
        <p:spPr>
          <a:xfrm>
            <a:off x="5105520" y="4724280"/>
            <a:ext cx="2438280" cy="20178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286160" cy="287640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3809880" y="2057400"/>
            <a:ext cx="2381400" cy="327672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3"/>
          <a:stretch/>
        </p:blipFill>
        <p:spPr>
          <a:xfrm>
            <a:off x="5105520" y="380880"/>
            <a:ext cx="3657600" cy="239256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4"/>
          <a:stretch/>
        </p:blipFill>
        <p:spPr>
          <a:xfrm>
            <a:off x="152280" y="3429000"/>
            <a:ext cx="3657600" cy="331308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5"/>
          <a:srcRect l="20935" t="19862" r="0" b="12894"/>
          <a:stretch/>
        </p:blipFill>
        <p:spPr>
          <a:xfrm>
            <a:off x="6400800" y="5029200"/>
            <a:ext cx="2590920" cy="165276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6248520" y="3200400"/>
            <a:ext cx="28954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Papyrus"/>
              </a:rPr>
              <a:t>Les Berber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cc"/>
                </a:solidFill>
                <a:latin typeface="Papyrus"/>
              </a:rPr>
              <a:t>Les Traditions</a:t>
            </a:r>
            <a:endParaRPr b="0" lang="en-US" sz="7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1320" y="1752120"/>
            <a:ext cx="2670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Papyrus"/>
              </a:rPr>
              <a:t>La Musique!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ff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Papyrus"/>
              </a:rPr>
              <a:t>Arabe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ff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Papyrus"/>
              </a:rPr>
              <a:t>Berbère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ff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Papyrus"/>
              </a:rPr>
              <a:t>Classique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ff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Papyrus"/>
              </a:rPr>
              <a:t>Rai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ff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Papyrus"/>
              </a:rPr>
              <a:t>Populaire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24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Papyrus"/>
              </a:rPr>
              <a:t>Griha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24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Papyrus"/>
              </a:rPr>
              <a:t>Chaabi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cc"/>
                </a:solidFill>
                <a:latin typeface="Papyrus"/>
              </a:rPr>
              <a:t>Arabe Nouvelle</a:t>
            </a:r>
            <a:endParaRPr b="0" lang="en-US" sz="7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Papyrus"/>
              </a:rPr>
              <a:t>La Musique Arabe Nouvelle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99"/>
                </a:solidFill>
                <a:uFillTx/>
                <a:latin typeface="Tahoma"/>
                <a:hlinkClick r:id="rId1"/>
              </a:rPr>
              <a:t>http://www.hawamusic.com/1/music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cc"/>
                </a:solidFill>
                <a:latin typeface="Papyrus"/>
              </a:rPr>
              <a:t>Berbère</a:t>
            </a:r>
            <a:endParaRPr b="0" lang="en-US" sz="7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Papyrus"/>
              </a:rPr>
              <a:t>Iness Mêzele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99"/>
                </a:solidFill>
                <a:uFillTx/>
                <a:latin typeface="Tahoma"/>
                <a:hlinkClick r:id="rId1"/>
              </a:rPr>
              <a:t>http://www.iness-mezel.com/index2a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3809880" y="3795840"/>
            <a:ext cx="4610160" cy="24429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4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cc"/>
                </a:solidFill>
                <a:latin typeface="Papyrus"/>
              </a:rPr>
              <a:t>Classique</a:t>
            </a:r>
            <a:endParaRPr b="0" lang="en-US" sz="7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Papyrus"/>
              </a:rPr>
              <a:t>Classique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www.music.art.dz/entree.htm#La%20Musique%20Classique%20Algérien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cc"/>
                </a:solidFill>
                <a:latin typeface="Papyrus"/>
              </a:rPr>
              <a:t>Le Maghreb</a:t>
            </a:r>
            <a:endParaRPr b="0" lang="en-US" sz="7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371240"/>
            <a:ext cx="8613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apyrus"/>
              </a:rPr>
              <a:t>C’est un combinaison de la Tunisie, l’Alg</a:t>
            </a:r>
            <a:r>
              <a:rPr b="0" lang="en-US" sz="2600" spc="-1" strike="noStrike">
                <a:solidFill>
                  <a:srgbClr val="ffffff"/>
                </a:solidFill>
                <a:latin typeface="Papyrus"/>
                <a:ea typeface="Tahoma"/>
              </a:rPr>
              <a:t>é</a:t>
            </a:r>
            <a:r>
              <a:rPr b="0" lang="en-US" sz="2600" spc="-1" strike="noStrike">
                <a:solidFill>
                  <a:srgbClr val="ffffff"/>
                </a:solidFill>
                <a:latin typeface="Papyrus"/>
              </a:rPr>
              <a:t>rie, et le Maroc – aussi appell</a:t>
            </a:r>
            <a:r>
              <a:rPr b="0" lang="en-US" sz="2600" spc="-1" strike="noStrike">
                <a:solidFill>
                  <a:srgbClr val="ffffff"/>
                </a:solidFill>
                <a:latin typeface="Papyrus"/>
                <a:ea typeface="Tahoma"/>
              </a:rPr>
              <a:t>é</a:t>
            </a:r>
            <a:r>
              <a:rPr b="0" lang="en-US" sz="2600" spc="-1" strike="noStrike">
                <a:solidFill>
                  <a:srgbClr val="ffffff"/>
                </a:solidFill>
                <a:latin typeface="Papyrus"/>
              </a:rPr>
              <a:t> Le Petit Maghreb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apyrus"/>
              </a:rPr>
              <a:t>Le Grand Maghreb ajoute la Mauritanie et la Liby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apyrus"/>
              </a:rPr>
              <a:t>Ces cinq pays forment l’Union du Maghreb Arabe (UMA), fond</a:t>
            </a:r>
            <a:r>
              <a:rPr b="0" lang="en-US" sz="2600" spc="-1" strike="noStrike">
                <a:solidFill>
                  <a:srgbClr val="ffffff"/>
                </a:solidFill>
                <a:latin typeface="Papyrus"/>
                <a:ea typeface="Tahoma"/>
              </a:rPr>
              <a:t>é</a:t>
            </a:r>
            <a:r>
              <a:rPr b="0" lang="en-US" sz="2600" spc="-1" strike="noStrike">
                <a:solidFill>
                  <a:srgbClr val="ffffff"/>
                </a:solidFill>
                <a:latin typeface="Papyrus"/>
              </a:rPr>
              <a:t>e en 1989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152280" y="3505320"/>
            <a:ext cx="5562720" cy="31654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cc"/>
                </a:solidFill>
                <a:latin typeface="Papyrus"/>
              </a:rPr>
              <a:t>Rai</a:t>
            </a:r>
            <a:endParaRPr b="0" lang="en-US" sz="7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-195480">
              <a:lnSpc>
                <a:spcPct val="100000"/>
              </a:lnSpc>
              <a:spcBef>
                <a:spcPts val="1250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Papyrus"/>
              </a:rPr>
              <a:t>Faudel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  <a:p>
            <a:pPr marL="1954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228600" y="2743200"/>
            <a:ext cx="3762360" cy="380988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4365360" y="2286000"/>
            <a:ext cx="438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faudel.artistes.universalmusic.fr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427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cc"/>
                </a:solidFill>
                <a:latin typeface="Papyrus"/>
              </a:rPr>
              <a:t>Chaabi</a:t>
            </a:r>
            <a:endParaRPr b="0" lang="en-US" sz="7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680" y="4723920"/>
            <a:ext cx="854064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250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Papyrus"/>
              </a:rPr>
              <a:t>Jil Jilala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moroccan.salmiya.net/songs/jil-jilala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4267080" y="1676520"/>
            <a:ext cx="3810240" cy="20286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cc"/>
                </a:solidFill>
                <a:latin typeface="Papyrus"/>
              </a:rPr>
              <a:t>La Cuisine</a:t>
            </a:r>
            <a:endParaRPr b="0" lang="en-US" sz="75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3543480" cy="266076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152280" y="1371600"/>
            <a:ext cx="3048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Papyrus"/>
              </a:rPr>
              <a:t>Bananes aux epic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4952880" y="3522600"/>
            <a:ext cx="3962520" cy="297504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5486400" y="3657600"/>
            <a:ext cx="3429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Papyrus"/>
              </a:rPr>
              <a:t>Brick au thon et la salade de tomat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pastilla2"/>
          <p:cNvPicPr/>
          <p:nvPr/>
        </p:nvPicPr>
        <p:blipFill>
          <a:blip r:embed="rId1"/>
          <a:stretch/>
        </p:blipFill>
        <p:spPr>
          <a:xfrm>
            <a:off x="304920" y="3505320"/>
            <a:ext cx="4286160" cy="307656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-52920" y="3071160"/>
            <a:ext cx="421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Papyrus"/>
              </a:rPr>
              <a:t>Pastilla aux fruits de mer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1" name="" descr="img_1759"/>
          <p:cNvPicPr/>
          <p:nvPr/>
        </p:nvPicPr>
        <p:blipFill>
          <a:blip r:embed="rId2"/>
          <a:stretch/>
        </p:blipFill>
        <p:spPr>
          <a:xfrm>
            <a:off x="3962520" y="1066680"/>
            <a:ext cx="4286160" cy="321948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3886200" y="879480"/>
            <a:ext cx="45720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Papyrus"/>
              </a:rPr>
              <a:t>Tajine de poisson aux légumes</a:t>
            </a: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320" y="250920"/>
            <a:ext cx="8757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Papyrus"/>
              </a:rPr>
              <a:t>http://requia.canalblog.com/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" descr="IMG_3398"/>
          <p:cNvPicPr/>
          <p:nvPr/>
        </p:nvPicPr>
        <p:blipFill>
          <a:blip r:embed="rId3"/>
          <a:stretch/>
        </p:blipFill>
        <p:spPr>
          <a:xfrm>
            <a:off x="5791320" y="3886200"/>
            <a:ext cx="3143160" cy="236052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5791320" y="3886200"/>
            <a:ext cx="3352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Papyrus"/>
              </a:rPr>
              <a:t>Le Crumble Chocola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cc"/>
                </a:solidFill>
                <a:latin typeface="Papyrus"/>
              </a:rPr>
              <a:t>Un Peu d’Histoire</a:t>
            </a:r>
            <a:endParaRPr b="0" lang="en-US" sz="7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apyrus"/>
              </a:rPr>
              <a:t>Pueplée par les Berbères depuis le temps de préhistoir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apyrus"/>
              </a:rPr>
              <a:t>Les Romains ont pris possession 2e siècle av.J.C. – l’introduction de l’urbinisation et le chrisianism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apyrus"/>
              </a:rPr>
              <a:t>7e siècle, le Maghreb est entré dans le monde musulma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apyrus"/>
              </a:rPr>
              <a:t>19e siècle, il est intégré à l’empire colonial françai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cc"/>
                </a:solidFill>
                <a:latin typeface="Papyrus"/>
              </a:rPr>
              <a:t>La Géographie</a:t>
            </a:r>
            <a:endParaRPr b="0" lang="en-US" sz="7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Papyrus"/>
              </a:rPr>
              <a:t>Trois Espaces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f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apyrus"/>
              </a:rPr>
              <a:t>La Mer M</a:t>
            </a:r>
            <a:r>
              <a:rPr b="0" lang="en-US" sz="3000" spc="-1" strike="noStrike">
                <a:solidFill>
                  <a:srgbClr val="ffffff"/>
                </a:solidFill>
                <a:latin typeface="Papyrus"/>
                <a:ea typeface="Tahoma"/>
              </a:rPr>
              <a:t>é</a:t>
            </a:r>
            <a:r>
              <a:rPr b="0" lang="en-US" sz="3000" spc="-1" strike="noStrike">
                <a:solidFill>
                  <a:srgbClr val="ffffff"/>
                </a:solidFill>
                <a:latin typeface="Papyrus"/>
              </a:rPr>
              <a:t>diterran</a:t>
            </a:r>
            <a:r>
              <a:rPr b="0" lang="en-US" sz="3000" spc="-1" strike="noStrike">
                <a:solidFill>
                  <a:srgbClr val="ffffff"/>
                </a:solidFill>
                <a:latin typeface="Papyrus"/>
                <a:ea typeface="Tahoma"/>
              </a:rPr>
              <a:t>é</a:t>
            </a:r>
            <a:r>
              <a:rPr b="0" lang="en-US" sz="3000" spc="-1" strike="noStrike">
                <a:solidFill>
                  <a:srgbClr val="ffffff"/>
                </a:solidFill>
                <a:latin typeface="Papyrus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f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apyrus"/>
              </a:rPr>
              <a:t>L’Oc</a:t>
            </a:r>
            <a:r>
              <a:rPr b="0" lang="en-US" sz="3000" spc="-1" strike="noStrike">
                <a:solidFill>
                  <a:srgbClr val="ffffff"/>
                </a:solidFill>
                <a:latin typeface="Papyrus"/>
                <a:ea typeface="Tahoma"/>
              </a:rPr>
              <a:t>é</a:t>
            </a:r>
            <a:r>
              <a:rPr b="0" lang="en-US" sz="3000" spc="-1" strike="noStrike">
                <a:solidFill>
                  <a:srgbClr val="ffffff"/>
                </a:solidFill>
                <a:latin typeface="Papyrus"/>
              </a:rPr>
              <a:t>an Atlantiqu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f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apyrus"/>
              </a:rPr>
              <a:t>Le D</a:t>
            </a:r>
            <a:r>
              <a:rPr b="0" lang="en-US" sz="3000" spc="-1" strike="noStrike">
                <a:solidFill>
                  <a:srgbClr val="ffffff"/>
                </a:solidFill>
                <a:latin typeface="Papyrus"/>
                <a:ea typeface="Tahoma"/>
              </a:rPr>
              <a:t>é</a:t>
            </a:r>
            <a:r>
              <a:rPr b="0" lang="en-US" sz="3000" spc="-1" strike="noStrike">
                <a:solidFill>
                  <a:srgbClr val="ffffff"/>
                </a:solidFill>
                <a:latin typeface="Papyrus"/>
              </a:rPr>
              <a:t>sert du Sahar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apyrus"/>
              </a:rPr>
              <a:t>La Cha</a:t>
            </a:r>
            <a:r>
              <a:rPr b="0" lang="en-US" sz="3000" spc="-1" strike="noStrike">
                <a:solidFill>
                  <a:srgbClr val="ffffff"/>
                </a:solidFill>
                <a:latin typeface="Papyrus"/>
                <a:ea typeface="Tahoma"/>
              </a:rPr>
              <a:t>î</a:t>
            </a:r>
            <a:r>
              <a:rPr b="0" lang="en-US" sz="3000" spc="-1" strike="noStrike">
                <a:solidFill>
                  <a:srgbClr val="ffffff"/>
                </a:solidFill>
                <a:latin typeface="Papyrus"/>
              </a:rPr>
              <a:t>ne de l’Atlas – Les Montagn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733920" cy="28000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cc"/>
                </a:solidFill>
                <a:latin typeface="Papyrus"/>
              </a:rPr>
              <a:t>La Mer Méditerranée</a:t>
            </a:r>
            <a:endParaRPr b="0" lang="en-US" sz="75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5410440" cy="4057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343040" y="152280"/>
            <a:ext cx="4349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ffffcc"/>
                </a:solidFill>
                <a:latin typeface="Papyrus"/>
              </a:rPr>
              <a:t>L’Océan Atlantique</a:t>
            </a:r>
            <a:endParaRPr b="0" lang="en-US" sz="69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418932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42703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ffffcc"/>
                </a:solidFill>
                <a:latin typeface="Papyrus"/>
              </a:rPr>
              <a:t>Le Désert du Sahara</a:t>
            </a:r>
            <a:endParaRPr b="0" lang="en-US" sz="69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3276720" y="243828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cc"/>
                </a:solidFill>
                <a:latin typeface="Papyrus"/>
              </a:rPr>
              <a:t>Les Atlas</a:t>
            </a:r>
            <a:endParaRPr b="0" lang="en-US" sz="75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rcRect l="0" t="7244" r="0" b="0"/>
          <a:stretch/>
        </p:blipFill>
        <p:spPr>
          <a:xfrm>
            <a:off x="990720" y="1752480"/>
            <a:ext cx="7010280" cy="4876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e8764"/>
            </a:gs>
            <a:gs pos="100000">
              <a:srgbClr val="9d7a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5406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cc"/>
                </a:solidFill>
                <a:latin typeface="Papyrus"/>
              </a:rPr>
              <a:t>Les GRANDES Villes</a:t>
            </a:r>
            <a:endParaRPr b="0" lang="en-US" sz="7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2819520"/>
            <a:ext cx="8540640" cy="32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apyrus"/>
              </a:rPr>
              <a:t>Algérie – Alger, Constantine, Ora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apyrus"/>
              </a:rPr>
              <a:t>Maroc – Casablanca, Rabat, Fès, Marrakech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apyrus"/>
              </a:rPr>
              <a:t>Tunisie - Tuni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18:57:51Z</dcterms:created>
  <dc:creator> </dc:creator>
  <dc:description/>
  <dc:language>en-US</dc:language>
  <cp:lastModifiedBy> </cp:lastModifiedBy>
  <dcterms:modified xsi:type="dcterms:W3CDTF">2007-04-03T17:37:50Z</dcterms:modified>
  <cp:revision>18</cp:revision>
  <dc:subject/>
  <dc:title>Le Maghreb</dc:title>
</cp:coreProperties>
</file>